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DE9-2440-4C29-92E6-18902033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9C8-230E-42BD-91AA-6BC37871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9E4-BBF2-4829-9FC5-9E37DC5F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49B-0647-4715-A84E-4BFEF474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72A-4FC7-42A6-9539-71A31E2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1F2-2F71-47F7-B789-838C9D6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F78-2818-4EEC-8EE9-1F693BEA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87E-25E1-4092-AB8C-0376A626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C86-E6CE-4B76-8EE1-66C5A44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A19-A4A4-4348-B932-F1A44A5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EEE-5B94-4FD0-8E5C-664C8E1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56B-42AB-4E5B-89E9-07095B4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D8E3-4CD6-46C1-A001-3FC78A9F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185442zVehBggLgs_ph" descr=""/>
          <p:cNvPicPr/>
          <p:nvPr/>
        </p:nvPicPr>
        <p:blipFill>
          <a:blip r:embed="rId1"/>
          <a:stretch/>
        </p:blipFill>
        <p:spPr>
          <a:xfrm>
            <a:off x="0" y="0"/>
            <a:ext cx="569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15000" y="10666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رنّمي أيتها السمواتُ وابتهجي أيتها الأرضُ واندفعي بالترنيمِ أيتها الجبال</a:t>
            </a:r>
            <a:r>
              <a:rPr b="0" lang="ar-SA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27652EflRjcdJyE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80880"/>
            <a:ext cx="3505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ه قد ولد لنا وُلدٌ أُعطِيَ لنا ابنٌ فصارتِ الرئاسةُ على كتِفِهِ  دُعِيَ اسمُهُ عجيباً م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ش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اً إلهاً جباراً أبا الأبدِ رئيسَ السلامِ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304920"/>
            <a:ext cx="31240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لهُنا الذي انتظرناهُ وافانا      وهو يُخَلِّصُ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الذي انتظرناهُ قد أتانا    فلنبتهج ونفرح بخلاصِهِ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BRSO01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95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228600"/>
            <a:ext cx="53341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لموا نستقي المياهَ من ينابيعِ الخلاصِ          هلموا نست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عترفوا للرب     نعترف ل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دعوا باسمِه       ندعو باسمِ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خبروا في الشعوبِ بأعمالِه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نُـخـبــِـــر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55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شيدوا له فقد أتى عظائم رنموا يا سما السموات رن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3548985bBMXFMRStl_ph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564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هتفي ورنّمي يا ساكِنَةَ صهيون فإن قدوسَ إسرائيلَ في وسَطِكِ عظي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09:10Z</dcterms:created>
  <dc:creator>SUZANNE.MD</dc:creator>
  <dc:description/>
  <dc:language>en-US</dc:language>
  <cp:lastModifiedBy>USER</cp:lastModifiedBy>
  <dcterms:modified xsi:type="dcterms:W3CDTF">2002-12-23T19:51:14Z</dcterms:modified>
  <cp:revision>2</cp:revision>
  <dc:subject/>
  <dc:title>PowerPoint Presentation</dc:title>
</cp:coreProperties>
</file>